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1FEF-3C98-4677-92F4-274DF6F2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D556-BD4F-4FBA-B767-8DF0BD6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E60-C969-4428-8006-F42376A9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3FD9-FA9B-4845-9C1F-203388F96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F3B-507A-47A1-8608-2E7A261B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71B-A61A-44D2-B585-AF54B315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B7FD-CA48-4A7D-870B-5C622DD4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104E-EDCA-4532-A7CC-5FE039BF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61F-EB34-4A47-81F1-43DB871C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A57-FD19-4DFC-8005-E8788EF3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4D99-5526-49F8-9708-EBF7CDFA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CADF-5B09-4BAE-91A9-B46AE248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712D-533F-4CD3-BAC6-799AF8844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333399"/>
                </a:solidFill>
                <a:latin typeface="Arial"/>
              </a:rPr>
              <a:t>WOLRD CREAM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WOLRD CREAMS FOR YOUR WILDEST DREAMS. WE HAVE ICE CREAM FROM FIVE STAR CREAMERRES ALL OVER THE WOL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